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B69D-3124-4244-8271-499490394B02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: Mercury , Venus, Mars and Earth are called inner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: These are Jupiter , Saturn, Uranus, 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: Mercury , Venus, Mars and Earth are called inner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: These are Jupiter , Saturn, Uranus, 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Asteroids. They also keep moving around the Sun .This ring is also called Asteroids Be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Asteroids. They also keep moving around the Sun .This ring is also called Asteroids Be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about 1/3rd of sunlight it receives .The earth’s atmosphere scatters the light &amp; creates a blue effectn,so it is also called Blue Plane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about 1/3rd of sunlight it receives .The earth’s atmosphere scatters the light &amp; creates a blue effectn,so it is also called Blue Plane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Planet but the only satellite of the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Planet but the only satellite of the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ameter of only  1/4th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ameter of only  1/4th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’s gravity is 1/6th of Earth, so your weight would be 1/6th of your weight on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’s gravity is 1/6th of Earth, so your weight would be 1/6th of your weight on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of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of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also has the largest dust storms 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also has the largest dust storms 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Jupiter (ruler of Roman go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 is the largest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Jupiter (ruler of Roman go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 is the largest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etter Understan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of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For Better Understanding </a:t>
            </a:r>
            <a:br>
              <a:rPr sz="1200"/>
            </a:b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of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–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 is the sixth planet from the Sun and the second largest planet in the Solar System, after Jupi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classified as a gas giant 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–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 is the sixth planet from the Sun and the second largest planet in the Solar System, after Jupi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classified as a gas giant 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-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-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0D3-0A2E-4946-9724-6CEAAC5F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482-BC4C-42AE-86E9-E101916F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EB3-1D11-4D2B-AD76-36B25743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087-39DE-4EE5-95F3-6DCD9914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4489-1DA6-490E-8D05-5F82C46C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F30F-6405-4AD4-BD02-02EA5A9D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2C5E-4C17-4FAD-9A4D-328CFBE7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90DA-9103-4067-94EF-811E2EB0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379D-3580-4A22-B399-581E0CAE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5568-6C99-491D-863B-6E1B8C28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87A4-C4EE-408F-89A1-8B5D1CCC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208-602E-495D-A4D6-669DE8C7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F4BD-11F8-4AEC-8DD8-676C95C7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0B7F-6F6A-4B0A-AD65-27FB17AA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6B4C-D87E-4E07-89D7-5E3B5F10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B019-AA07-4220-B892-16D7C3ED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113C-66A2-46FD-AF3C-BF99A633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F66-5D57-4556-BDE0-7E17AFE9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0CE-E4B3-4ACC-ACE5-69658866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73D-C494-42E1-B740-05E5AFD1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C0B-5ED1-4B9D-B7C7-194C1481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33B-9512-4271-BE34-F4F5A350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BB1-8C36-4F9C-8282-3801DE82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9A4-8D68-457A-8CBE-22E6030C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8951-0108-4C20-8C02-F8736796715A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7A89-0767-48D1-9656-EFEB0C7FB60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E951-3ED0-4985-A144-30837968AE27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9649-BFC6-4B7F-94E6-6359C46B570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115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1500"/>
            </a:br>
            <a:r>
              <a:rPr b="1" i="1" lang="en-US" sz="11500" spc="-1" strike="noStrike">
                <a:solidFill>
                  <a:srgbClr val="0070c0"/>
                </a:solidFill>
                <a:latin typeface="Calibri"/>
              </a:rPr>
              <a:t>Science Videos</a:t>
            </a:r>
            <a:br>
              <a:rPr sz="11500"/>
            </a:b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ner Planet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Mercury , Venus, Mars and Earth are called inner plane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Outer Planets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se are Jupiter , Saturn, Uranus, Neptu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ject 4" descr=""/>
          <p:cNvPicPr/>
          <p:nvPr/>
        </p:nvPicPr>
        <p:blipFill>
          <a:blip r:embed="rId1"/>
          <a:stretch/>
        </p:blipFill>
        <p:spPr>
          <a:xfrm>
            <a:off x="7524720" y="6021360"/>
            <a:ext cx="1371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teroi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They also keep moving around the Sun .This ring is also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teroids Be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s://encrypted-tbn2.google.com/images?q=tbn:ANd9GcQItvSu7227CuvqlftuUPgoXVXZmgOwx_EPiWE4OzBQMuWzEH4ZXQ"/>
          <p:cNvPicPr/>
          <p:nvPr/>
        </p:nvPicPr>
        <p:blipFill>
          <a:blip r:embed="rId1"/>
          <a:stretch/>
        </p:blipFill>
        <p:spPr>
          <a:xfrm>
            <a:off x="-108000" y="-12600"/>
            <a:ext cx="9252000" cy="3384360"/>
          </a:xfrm>
          <a:prstGeom prst="rect">
            <a:avLst/>
          </a:prstGeom>
          <a:ln w="0">
            <a:noFill/>
          </a:ln>
        </p:spPr>
      </p:pic>
      <p:sp>
        <p:nvSpPr>
          <p:cNvPr id="12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Mercury –The Innermost 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2286000" cy="226692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Mercury –The Innermost 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Venus –The Veiled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5000" y="2060640"/>
            <a:ext cx="2819520" cy="3024000"/>
          </a:xfrm>
          <a:prstGeom prst="rect">
            <a:avLst/>
          </a:prstGeom>
          <a:ln w="0">
            <a:noFill/>
          </a:ln>
        </p:spPr>
      </p:pic>
      <p:sp>
        <p:nvSpPr>
          <p:cNvPr id="1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Venus –The Veiled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arth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–The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Blu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3560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flects about 1/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sunlight it receives .The earth’s atmosphere scatters the light &amp; creates a blue effectn,so it is also called Blue Planet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A planetary disk of white cloud formations, brown and green land masses, and dark blue oceans against a black background. The Arabian peninsula, Africa and Madagascar lie in the upper half of the disk, while Antarctica is at the bottom."/>
          <p:cNvPicPr/>
          <p:nvPr/>
        </p:nvPicPr>
        <p:blipFill>
          <a:blip r:embed="rId1"/>
          <a:stretch/>
        </p:blipFill>
        <p:spPr>
          <a:xfrm>
            <a:off x="468360" y="2060640"/>
            <a:ext cx="2930400" cy="2932200"/>
          </a:xfrm>
          <a:prstGeom prst="rect">
            <a:avLst/>
          </a:prstGeom>
          <a:ln w="0">
            <a:noFill/>
          </a:ln>
        </p:spPr>
      </p:pic>
      <p:sp>
        <p:nvSpPr>
          <p:cNvPr id="1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C:\Users\Sumitomo\Desktop\MMG\Teaching Kids.png"/>
          <p:cNvPicPr/>
          <p:nvPr/>
        </p:nvPicPr>
        <p:blipFill>
          <a:blip r:embed="rId1"/>
          <a:stretch/>
        </p:blipFill>
        <p:spPr>
          <a:xfrm>
            <a:off x="0" y="2114640"/>
            <a:ext cx="9144000" cy="4843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556000" y="39204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ww.makemegenius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arth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Blu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40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Not a Planet but the only satellite of the Ear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’s diameter of only  1/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the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55520" y="2060640"/>
            <a:ext cx="3845160" cy="2881080"/>
          </a:xfrm>
          <a:prstGeom prst="rect">
            <a:avLst/>
          </a:prstGeom>
          <a:ln w="0">
            <a:noFill/>
          </a:ln>
        </p:spPr>
      </p:pic>
      <p:sp>
        <p:nvSpPr>
          <p:cNvPr id="1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n’s gravity is 1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Earth, so your weight would be 1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your weight on the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2887560" cy="309708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rs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amed after the Roman god of w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The planet Mars"/>
          <p:cNvPicPr/>
          <p:nvPr/>
        </p:nvPicPr>
        <p:blipFill>
          <a:blip r:embed="rId1"/>
          <a:stretch/>
        </p:blipFill>
        <p:spPr>
          <a:xfrm>
            <a:off x="684360" y="2133720"/>
            <a:ext cx="2739960" cy="2739960"/>
          </a:xfrm>
          <a:prstGeom prst="rect">
            <a:avLst/>
          </a:prstGeom>
          <a:ln w="0">
            <a:noFill/>
          </a:ln>
        </p:spPr>
      </p:pic>
      <p:sp>
        <p:nvSpPr>
          <p:cNvPr id="1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Mars also has the largest</a:t>
            </a:r>
            <a:r>
              <a:rPr b="0" lang="en-IN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dust storms in the Solar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rs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Giant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amed after the Roman god Jupiter (ruler of Roman go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is the largest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Jupiter by Cassini-Huygens.jpg"/>
          <p:cNvPicPr/>
          <p:nvPr/>
        </p:nvPicPr>
        <p:blipFill>
          <a:blip r:embed="rId1"/>
          <a:stretch/>
        </p:blipFill>
        <p:spPr>
          <a:xfrm>
            <a:off x="755640" y="1916280"/>
            <a:ext cx="2849400" cy="2751120"/>
          </a:xfrm>
          <a:prstGeom prst="rect">
            <a:avLst/>
          </a:prstGeom>
          <a:ln w="0">
            <a:noFill/>
          </a:ln>
        </p:spPr>
      </p:pic>
      <p:sp>
        <p:nvSpPr>
          <p:cNvPr id="17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Better Understand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  of </a:t>
            </a: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Solar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2332080"/>
            <a:ext cx="911556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Giant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aturn –The Jewel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000" spc="-1" strike="noStrike">
                <a:solidFill>
                  <a:srgbClr val="000000"/>
                </a:solidFill>
                <a:latin typeface="Calibri"/>
              </a:rPr>
              <a:t>Saturn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 is the sixth planet from the Sun and the second largest planet in the Solar System, after Jupit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Saturn is classified as a </a:t>
            </a:r>
            <a:r>
              <a:rPr b="0" lang="en-IN" sz="3000" spc="-1" strike="noStrike" u="sng">
                <a:solidFill>
                  <a:srgbClr val="000000"/>
                </a:solidFill>
                <a:uFillTx/>
                <a:latin typeface="Calibri"/>
              </a:rPr>
              <a:t>gas giant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 plan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544680" y="1916280"/>
            <a:ext cx="3132000" cy="30970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903600" y="6381720"/>
            <a:ext cx="73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aturn-The Jewel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Uranus –A planet on it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 rot="1976400">
            <a:off x="7215120" y="608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http://upload.wikimedia.org/wikipedia/commons/thumb/e/e4/Uranusandrings.jpg/220px-Uranusandrings.jpg"/>
          <p:cNvPicPr/>
          <p:nvPr/>
        </p:nvPicPr>
        <p:blipFill>
          <a:blip r:embed="rId1"/>
          <a:stretch/>
        </p:blipFill>
        <p:spPr>
          <a:xfrm>
            <a:off x="324000" y="1773360"/>
            <a:ext cx="3311280" cy="3168360"/>
          </a:xfrm>
          <a:prstGeom prst="rect">
            <a:avLst/>
          </a:prstGeom>
          <a:ln w="0">
            <a:noFill/>
          </a:ln>
        </p:spPr>
      </p:pic>
      <p:sp>
        <p:nvSpPr>
          <p:cNvPr id="19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Uranus –A planet on it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"/>
          <p:cNvSpPr/>
          <p:nvPr/>
        </p:nvSpPr>
        <p:spPr>
          <a:xfrm rot="1976400">
            <a:off x="7394040" y="84456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eptune –The Last Gia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Neptune from Voyager 2"/>
          <p:cNvPicPr/>
          <p:nvPr/>
        </p:nvPicPr>
        <p:blipFill>
          <a:blip r:embed="rId1"/>
          <a:stretch/>
        </p:blipFill>
        <p:spPr>
          <a:xfrm>
            <a:off x="826920" y="2060640"/>
            <a:ext cx="2799000" cy="2752560"/>
          </a:xfrm>
          <a:prstGeom prst="rect">
            <a:avLst/>
          </a:prstGeom>
          <a:ln w="0">
            <a:noFill/>
          </a:ln>
        </p:spPr>
      </p:pic>
      <p:sp>
        <p:nvSpPr>
          <p:cNvPr id="2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eptune –The Last Gia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2708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600"/>
            </a:br>
            <a:r>
              <a:rPr b="1" i="1" lang="en-US" sz="9600" spc="-1" strike="noStrike">
                <a:solidFill>
                  <a:srgbClr val="0070c0"/>
                </a:solidFill>
                <a:latin typeface="Calibri"/>
              </a:rPr>
              <a:t>Science Videos</a:t>
            </a:r>
            <a:br>
              <a:rPr sz="9600"/>
            </a:b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569840" y="5516640"/>
            <a:ext cx="26618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0440" y="7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ola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60440" y="1268280"/>
            <a:ext cx="8215200" cy="532620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un  –Star of the Solar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The Sun by the Atmospheric Imaging Assembly of NASA's Solar Dynamics Observatory - 20100819.jpg"/>
          <p:cNvPicPr/>
          <p:nvPr/>
        </p:nvPicPr>
        <p:blipFill>
          <a:blip r:embed="rId1"/>
          <a:stretch/>
        </p:blipFill>
        <p:spPr>
          <a:xfrm>
            <a:off x="539640" y="2133720"/>
            <a:ext cx="2762280" cy="2638440"/>
          </a:xfrm>
          <a:prstGeom prst="rect">
            <a:avLst/>
          </a:prstGeom>
          <a:ln w="0">
            <a:noFill/>
          </a:ln>
        </p:spPr>
      </p:pic>
      <p:sp>
        <p:nvSpPr>
          <p:cNvPr id="1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un  –Star of the Solar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3:56:04Z</dcterms:created>
  <dc:creator>Sumitomo</dc:creator>
  <dc:description/>
  <dc:language>en-US</dc:language>
  <cp:lastModifiedBy>Legion</cp:lastModifiedBy>
  <dcterms:modified xsi:type="dcterms:W3CDTF">2017-01-26T10:17:38Z</dcterms:modified>
  <cp:revision>26</cp:revision>
  <dc:subject/>
  <dc:title>Saturn</dc:title>
</cp:coreProperties>
</file>